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600-4EAB-4ED4-BA9B-E98FEE2A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496-A2FB-4BB1-814A-B600CB5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E4C-2A9C-400A-9B17-15E2BA09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1A9-E154-4C76-8363-B07491D1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97D-97FC-4710-ABF6-86A6C0F1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B34-E433-4640-8086-4D31A961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739-75BB-4DC8-BCD8-7DBAE0E5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A2C-A976-44F1-81D3-0022E3E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40C-7453-4938-AEBA-404DB759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C30-9F90-4B5D-AB7C-344D238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A32-7AAE-4101-8610-8EA1268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9A4-6CB2-4B42-86E6-81E3047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290D-23B8-4C76-8D3F-D96DF0715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28 Sept 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day: Intro to on-line text and accel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mework: Read section 2.2 p 48-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xt address: http://my.hrw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morrow: We will derive the equations of motion presented in this section in cl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you need a hard copy of the book – please let me know – you can get one in class, or see me after (or before) sch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e must reach a speed of 100 m/s at take off. If it takes 10 seconds to get down the runway, how long does the runway have to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on lift off, a rocket ship accelerates at a rate of 1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How fast is it travelling when it reaches a height of 10,000 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1 Oct 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: Independent time to work on assignments – please check out the new assignments posted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Continue assignments – Notebook check tomorrow – Don’t forget your composition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2 Oct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free f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question: If something accelerates from rest at a rate of 10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 fast is it travelling after 5 seco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section 3 in chapter 2 (p60-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week: Free-fall lab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ehind the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know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+ ½ a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rop something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0, so the equation reduces to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= ½ 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rearrange with a on the left you 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2d/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ts you find the acceleration of an object due to gravity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lso determine the slope of a graph of v vs. t to get a. We will do this to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leration (p 48-4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eration is the rate of change of velocity with respect to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/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 how this form looks similar to that of velocity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/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as the slope of x vs t is velocity, the slope of v vs t is acceleration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mat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can accelerate at a rate of 2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How long will it take for the car to reach a speed of 30 m/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ate of acceleration for a car that slows from 30 m/s to a stop in three seco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29 Sept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: deriving the equations of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out the new assignments that are posted on the w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sure the entire derivations we do together in class are in your notebook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work on ass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 of linear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 = displacement (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= time of travel (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= rate of constant accel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initial veloc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final veloc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 of linear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v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/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v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/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nors Physics 30 Sept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: Using the equations of motion and the logical problem solving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Section review, page 59 – answer in composition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ebook check on Fri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teps in Problem Solv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what you are looking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what you know (state your variab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(s) you need from the variables you have (and don’t ha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rrange equations to solve for the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any unit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g and ch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your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travelling at 10.0 m/s accelerates at a rate of 2.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 final velocity of 20. m/s. How long does it take for this to occ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1:17:39Z</dcterms:created>
  <dc:creator>sebastian interlandi</dc:creator>
  <dc:description/>
  <dc:language>en-US</dc:language>
  <cp:lastModifiedBy>sebastian interlandi</cp:lastModifiedBy>
  <dcterms:modified xsi:type="dcterms:W3CDTF">2009-10-02T18:59:04Z</dcterms:modified>
  <cp:revision>9</cp:revision>
  <dc:subject/>
  <dc:title>Honors Physics 28 Sept 09</dc:title>
</cp:coreProperties>
</file>